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2A5-3C0F-40F0-B0F5-1950E267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r lesson plans in occupational programs may include presenting some type of demonstration for your students. A good demonstration can be an excellent instructional tool, but you should always be well prepared for a demonstration because a poor one is an embarrassing disas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and the next one offer some guidelines and suggestions for planning good demonstration les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96E-9F6D-47BB-B652-27C9465E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AB9-F460-4E81-BB6A-443514A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654-6A6B-4E26-ABD8-626CA85E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14D-81AC-49C2-87EF-629DB7B8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575-46D8-480D-9305-CC0C098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045-F369-4C22-B65F-2AC9D74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E9D-8AB2-44F8-AEB3-33E6882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17A-8DEC-42DB-BD08-9244F5A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7B0-334F-42D7-9656-D227E05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B4E-FB66-4DFF-BC8D-B50987B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C04-B78A-41BE-8682-D577432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677-2D43-4616-944D-2D607E1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F7F4-D489-4710-8206-964446B3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572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uide to Effective Demonst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1295280"/>
            <a:ext cx="556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use good showma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ll materials gathered, organized, and acce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ure everyone can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parts, pieces, tools, and procedures before you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 and show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uide to Effective Demonst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76360" y="1371240"/>
            <a:ext cx="5562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 students as you go - ques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very deliberate and slow at first, then gradually reach expected speed-skil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students lead you through 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students come up and try the skill, with others watching for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03:35:11Z</dcterms:created>
  <dc:creator>Compaq</dc:creator>
  <dc:description/>
  <dc:language>en-US</dc:language>
  <cp:lastModifiedBy>Floyd Ausburn</cp:lastModifiedBy>
  <dcterms:modified xsi:type="dcterms:W3CDTF">2009-01-19T23:59:12Z</dcterms:modified>
  <cp:revision>62</cp:revision>
  <dc:subject/>
  <dc:title>A Practical  Guide to Lesson Planning  for CBE</dc:title>
</cp:coreProperties>
</file>